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C3C-8819-4010-B394-300DEE98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56D-8CB6-464C-855B-5E9A27D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B8F-A304-46F1-A526-65062697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3ED-906A-45B2-BFFA-56E7BBDF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B2CF-996A-47A7-87C8-B00A7756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EBE2-859E-4C2E-8778-4DB4C88E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7861-FCE3-429D-9204-BDA2904A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CE20-5FD8-4D3D-ABF2-2725F87D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F6B-393B-4FCC-A504-FCA01E7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6C5E-2EDE-4098-BBCF-374A1D2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02D5-04C9-40D7-AF2A-1CB15CE7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8ED-FD1A-4170-8F23-799D05A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513-AFCF-4805-8E86-7C394AA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6C02-7340-43B6-96A9-6CEB412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7C5B-3122-4192-A7C8-1EFECF90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DAF-6D29-4039-AE0A-F8BA6081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E26D-28CC-4810-A277-B9ACF5CA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006-2838-4D88-9857-A7B14892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369-6487-48F8-9E57-B62E7E11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441-C736-429E-AE60-8B353B0B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3D4-D72C-4280-A201-4D3D7466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FD8-8828-4D6E-AA22-53CADE8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26B-C356-4E6E-8F04-E99A02A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58E-CAD8-4DFD-8481-64B2B36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D94C-84D1-48C3-A9EE-D47B20084DE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53C6-0556-4BF7-A956-EBF57E21EFF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2000" y="1052640"/>
            <a:ext cx="6483240" cy="4800600"/>
          </a:xfrm>
          <a:prstGeom prst="rect">
            <a:avLst/>
          </a:prstGeom>
          <a:noFill/>
          <a:ln w="0">
            <a:noFill/>
          </a:ln>
          <a:effectLst>
            <a:outerShdw dist="99192" dir="1858194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قلبي مستعد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2700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لْبي مُسْتَعِدٌّ يا ألله إنّي أُرَنِّمُ وَأُشيدُ، إسْتَيقِظ يا مَجْدي إسْتَيْقِظْ أَيُّها الْعودُ والكِنّارَةُ سَأَسْتَيْقِظُ سَحَراً.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36440"/>
            <a:ext cx="8244000" cy="11615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عْتَرِفُ لَكَ فِي الشّعوبِ أَيُّها الرَّبُ وَأُشيدُ لَكَ فِي الأُمَمْ، فَقَدْ عَظُمَتْ رَحْمَتُكَ وَحَقُكَ إلى الْغُيوم؛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36440"/>
            <a:ext cx="9144000" cy="14907240"/>
          </a:xfrm>
          <a:prstGeom prst="rect">
            <a:avLst/>
          </a:prstGeom>
          <a:noFill/>
          <a:ln w="0">
            <a:noFill/>
          </a:ln>
          <a:effectLst>
            <a:outerShdw dist="52300" dir="1536356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ْتَفِعْ على السّماواتِ يا ألله وَلْيَكُنْ مَجْدُكَ على جَميعِ الأرض لِكَيْ يَخْلُصَ أَوِدّاؤكَ وَخلِّصْ بيَمينِكَ واسْتَجِبْ ل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1:21:00Z</dcterms:created>
  <dc:creator>Charbel Azar</dc:creator>
  <dc:description/>
  <dc:language>en-US</dc:language>
  <cp:lastModifiedBy>-</cp:lastModifiedBy>
  <dcterms:modified xsi:type="dcterms:W3CDTF">2003-01-09T15:02:55Z</dcterms:modified>
  <cp:revision>7</cp:revision>
  <dc:subject/>
  <dc:title>Slide 1</dc:title>
</cp:coreProperties>
</file>